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EE0-1EEB-4893-BE78-53B10862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0FA-BF87-4952-A446-BDC344FC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700-44EB-4572-85F2-76F3127F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67C-ADCD-4FD8-B022-85FCE773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EB97-8D14-4E47-9F1E-11284FAB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437-E85C-4ACE-A66F-5DCA3985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D37-3A87-4A3D-A21C-6DDFA0BE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9A47-9BEC-49BA-8FC2-187CFD09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FD1-7555-49E0-8642-3FF08FE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88C8-1181-42ED-A820-1772AE5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7CA-07C7-4BBB-BCE3-81B1B6E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B6D-847E-4C1A-97D1-6EAAC86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FEB-ACA4-4C23-AAE5-A74882B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7B5-3F42-4F16-A754-D5C2D3E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3B92-44E8-4177-8078-F0B496FC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DD3A-A7BB-4AFA-9E14-00670BD9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45E-EBFB-4DB6-B29D-847DC242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1BC-0252-49F3-8034-EF1A837F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DA0-A38C-4A35-B194-EB4D849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29B-2E77-40F5-8835-AD2875C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AE0-F665-488E-94FC-FD9BDD3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AF6-8032-4F36-BBD2-560E10F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E81-E301-4CB8-AF7A-31A866B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367-7FE1-44CC-880C-2751D8B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A2D7-D76E-4605-B980-425F17A8ACB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D5E2-852A-4DE7-A55F-EB59D18B1CE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Rectángulo"/>
          <p:cNvSpPr/>
          <p:nvPr/>
        </p:nvSpPr>
        <p:spPr>
          <a:xfrm>
            <a:off x="571680" y="357120"/>
            <a:ext cx="75722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Arial"/>
              </a:rPr>
              <a:t>PROGRAMA ANALITICO Y/O DE EXAMEN</a:t>
            </a: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CuadroTexto"/>
          <p:cNvSpPr/>
          <p:nvPr/>
        </p:nvSpPr>
        <p:spPr>
          <a:xfrm>
            <a:off x="214200" y="1071720"/>
            <a:ext cx="89298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70c0"/>
                </a:solidFill>
                <a:uFillTx/>
                <a:latin typeface="Arial"/>
              </a:rPr>
              <a:t>Bolilla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aturaleza Química- Propiedades Generales- Nomenclatura y Clasificacion- Coenzimas, importancia de las Vitaminas. Grupos Prostéticos. Compartimental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lejo ES- Actividad Enzim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Unidad de enzima- Actividad específica- Actividad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que afectan la actividad enzimatic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[Enzima]- pH – T- [S], Ecuación de Michaelis Menten y Ecuación de Lineweaver Burk-  Inhibición de las enzimas, competitiva y no Competi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ón Enzim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zimas alostéricas (propiedades y cinética)- Regulación Covalente-Zimóg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enzima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edades e importa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¿Cómo se clasifican las enzimas?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2. 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17480" y="207648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39640" y="5229360"/>
            <a:ext cx="2017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2.7.1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138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T1107"/>
          <p:cNvPicPr/>
          <p:nvPr/>
        </p:nvPicPr>
        <p:blipFill>
          <a:blip r:embed="rId1"/>
          <a:srcRect l="36406" t="62681" r="14851" b="28994"/>
          <a:stretch/>
        </p:blipFill>
        <p:spPr>
          <a:xfrm>
            <a:off x="3143160" y="2214720"/>
            <a:ext cx="6002280" cy="874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T1107"/>
          <p:cNvPicPr/>
          <p:nvPr/>
        </p:nvPicPr>
        <p:blipFill>
          <a:blip r:embed="rId2"/>
          <a:srcRect l="37399" t="74977" r="23467" b="16180"/>
          <a:stretch/>
        </p:blipFill>
        <p:spPr>
          <a:xfrm>
            <a:off x="3152880" y="3571920"/>
            <a:ext cx="5983200" cy="100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T1107"/>
          <p:cNvPicPr/>
          <p:nvPr/>
        </p:nvPicPr>
        <p:blipFill>
          <a:blip r:embed="rId3"/>
          <a:srcRect l="36406" t="88606" r="3389" b="4119"/>
          <a:stretch/>
        </p:blipFill>
        <p:spPr>
          <a:xfrm>
            <a:off x="2571840" y="5357880"/>
            <a:ext cx="6584760" cy="857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468360" y="1928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LI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876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ISO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87440" y="50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84360" y="2360520"/>
            <a:ext cx="187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des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4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73120" y="3922560"/>
            <a:ext cx="237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Fumarasa ó malato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5.2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701640" y="550080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6.4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428760" y="3571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3. HIDROL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717480" y="93348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Carboxipeptidas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3.4.1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3" descr="T1107"/>
          <p:cNvPicPr/>
          <p:nvPr/>
        </p:nvPicPr>
        <p:blipFill>
          <a:blip r:embed="rId4"/>
          <a:srcRect l="36461" t="44470" r="247" b="43358"/>
          <a:stretch/>
        </p:blipFill>
        <p:spPr>
          <a:xfrm>
            <a:off x="3143160" y="874800"/>
            <a:ext cx="60008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68360" y="928800"/>
            <a:ext cx="8229600" cy="51847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TERCIARIA Y CUATERN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DE UNION AL SUSTRATO (Sitio Activ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iones no Covalente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Puente de hidrógeno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Hidrofób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Electrost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ITAN DE FACTORES NO ENZIMATICOS: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inorgá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metales) y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orgán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Coenzim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PECIFICIDAD DE SUSTRATO. Estereoespecificidad y especificidad geomét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REGULABLES: la síntesis de la proteína-enzima, su actividad y degrad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84807"/>
                </a:solidFill>
                <a:latin typeface="Comic Sans MS"/>
              </a:rPr>
              <a:t>Características de las enzim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Reacción catalizada por una Enz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uno"/>
          <p:cNvPicPr/>
          <p:nvPr/>
        </p:nvPicPr>
        <p:blipFill>
          <a:blip r:embed="rId1"/>
          <a:srcRect l="0" t="6417" r="65664" b="42041"/>
          <a:stretch/>
        </p:blipFill>
        <p:spPr>
          <a:xfrm>
            <a:off x="250920" y="2133720"/>
            <a:ext cx="244800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57" name="AutoShape 9"/>
          <p:cNvCxnSpPr/>
          <p:nvPr/>
        </p:nvCxnSpPr>
        <p:spPr>
          <a:xfrm>
            <a:off x="2999880" y="4500360"/>
            <a:ext cx="715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AutoShape 10"/>
          <p:cNvCxnSpPr/>
          <p:nvPr/>
        </p:nvCxnSpPr>
        <p:spPr>
          <a:xfrm flipV="1">
            <a:off x="4572000" y="4580640"/>
            <a:ext cx="9151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Text Box 14"/>
          <p:cNvSpPr/>
          <p:nvPr/>
        </p:nvSpPr>
        <p:spPr>
          <a:xfrm>
            <a:off x="5219640" y="5143680"/>
            <a:ext cx="149544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6858000" y="5157720"/>
            <a:ext cx="180036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27" descr=""/>
          <p:cNvPicPr/>
          <p:nvPr/>
        </p:nvPicPr>
        <p:blipFill>
          <a:blip r:embed="rId2"/>
          <a:stretch/>
        </p:blipFill>
        <p:spPr>
          <a:xfrm>
            <a:off x="-128520" y="4211640"/>
            <a:ext cx="3414600" cy="136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5357880" y="4365720"/>
            <a:ext cx="2922480" cy="503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      +    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8"/>
          <p:cNvGrpSpPr/>
          <p:nvPr/>
        </p:nvGrpSpPr>
        <p:grpSpPr>
          <a:xfrm>
            <a:off x="3224160" y="4394160"/>
            <a:ext cx="1919160" cy="1677600"/>
            <a:chOff x="3224160" y="4394160"/>
            <a:chExt cx="1919160" cy="1677600"/>
          </a:xfrm>
        </p:grpSpPr>
        <p:sp>
          <p:nvSpPr>
            <p:cNvPr id="164" name="Text Box 13"/>
            <p:cNvSpPr/>
            <p:nvPr/>
          </p:nvSpPr>
          <p:spPr>
            <a:xfrm>
              <a:off x="3224160" y="5097960"/>
              <a:ext cx="191916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Comple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3765600" y="4394160"/>
              <a:ext cx="944640" cy="489600"/>
            </a:xfrm>
            <a:prstGeom prst="rect">
              <a:avLst/>
            </a:prstGeom>
            <a:solidFill>
              <a:srgbClr val="348626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9" descr="uno"/>
          <p:cNvPicPr/>
          <p:nvPr/>
        </p:nvPicPr>
        <p:blipFill>
          <a:blip r:embed="rId3"/>
          <a:srcRect l="62963" t="6417" r="6483" b="36589"/>
          <a:stretch/>
        </p:blipFill>
        <p:spPr>
          <a:xfrm>
            <a:off x="6156360" y="2060640"/>
            <a:ext cx="2087640" cy="12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uno"/>
          <p:cNvPicPr/>
          <p:nvPr/>
        </p:nvPicPr>
        <p:blipFill>
          <a:blip r:embed="rId4"/>
          <a:srcRect l="38176" t="6417" r="42720" b="37289"/>
          <a:stretch/>
        </p:blipFill>
        <p:spPr>
          <a:xfrm>
            <a:off x="3708360" y="2133720"/>
            <a:ext cx="1467000" cy="1439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1"/>
          <p:cNvSpPr/>
          <p:nvPr/>
        </p:nvSpPr>
        <p:spPr>
          <a:xfrm>
            <a:off x="2843280" y="263700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2"/>
          <p:cNvSpPr/>
          <p:nvPr/>
        </p:nvSpPr>
        <p:spPr>
          <a:xfrm>
            <a:off x="5364000" y="263700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 flipV="1">
            <a:off x="2340000" y="2923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24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6"/>
          <p:cNvSpPr/>
          <p:nvPr/>
        </p:nvSpPr>
        <p:spPr>
          <a:xfrm flipV="1">
            <a:off x="781200" y="3141360"/>
            <a:ext cx="45720" cy="1073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 flipH="1">
            <a:off x="3354480" y="4653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4858920" y="47242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539640" y="112536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LTA 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435640" y="1125360"/>
            <a:ext cx="201600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Único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897200" y="27860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580000" y="2781360"/>
            <a:ext cx="2160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9640" y="4133880"/>
            <a:ext cx="482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PECIFIC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6588000" y="4005360"/>
            <a:ext cx="216072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upo de 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39640" y="551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211640" y="5516640"/>
            <a:ext cx="1944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EX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067280" y="6222960"/>
            <a:ext cx="4897440" cy="520560"/>
          </a:xfrm>
          <a:prstGeom prst="rect">
            <a:avLst/>
          </a:prstGeom>
          <a:solidFill>
            <a:srgbClr val="ff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84807"/>
                </a:solidFill>
                <a:latin typeface="Calibri"/>
              </a:rPr>
              <a:t>glucosa, manosa y 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ESPECIFICIDAD 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4140360" y="1341360"/>
            <a:ext cx="1223640" cy="28728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4716360" y="285264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3274920" y="566100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5292720" y="429264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0"/>
          <p:cNvGrpSpPr/>
          <p:nvPr/>
        </p:nvGrpSpPr>
        <p:grpSpPr>
          <a:xfrm>
            <a:off x="395280" y="1413000"/>
            <a:ext cx="4535640" cy="3528720"/>
            <a:chOff x="395280" y="1413000"/>
            <a:chExt cx="4535640" cy="3528720"/>
          </a:xfrm>
        </p:grpSpPr>
        <p:pic>
          <p:nvPicPr>
            <p:cNvPr id="190" name="Picture 5" descr="fi11p8"/>
            <p:cNvPicPr/>
            <p:nvPr/>
          </p:nvPicPr>
          <p:blipFill>
            <a:blip r:embed="rId1"/>
            <a:srcRect l="0" t="0" r="54061" b="8640"/>
            <a:stretch/>
          </p:blipFill>
          <p:spPr>
            <a:xfrm>
              <a:off x="395280" y="1413000"/>
              <a:ext cx="4535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9"/>
            <p:cNvSpPr/>
            <p:nvPr/>
          </p:nvSpPr>
          <p:spPr>
            <a:xfrm>
              <a:off x="540000" y="1701720"/>
              <a:ext cx="1223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D-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7" descr="fi11p8"/>
          <p:cNvPicPr/>
          <p:nvPr/>
        </p:nvPicPr>
        <p:blipFill>
          <a:blip r:embed="rId2"/>
          <a:srcRect l="54774" t="11215" r="0" b="6847"/>
          <a:stretch/>
        </p:blipFill>
        <p:spPr>
          <a:xfrm>
            <a:off x="4356000" y="3502080"/>
            <a:ext cx="4462560" cy="3166920"/>
          </a:xfrm>
          <a:prstGeom prst="rect">
            <a:avLst/>
          </a:prstGeom>
          <a:ln w="0">
            <a:noFill/>
          </a:ln>
        </p:spPr>
      </p:pic>
      <p:sp>
        <p:nvSpPr>
          <p:cNvPr id="193" name="Oval 12"/>
          <p:cNvSpPr/>
          <p:nvPr/>
        </p:nvSpPr>
        <p:spPr>
          <a:xfrm>
            <a:off x="2500200" y="5013360"/>
            <a:ext cx="187344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Calibri"/>
              </a:rPr>
              <a:t>Gluc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4140360" y="476280"/>
            <a:ext cx="4752360" cy="1154160"/>
            <a:chOff x="4140360" y="476280"/>
            <a:chExt cx="4752360" cy="1154160"/>
          </a:xfrm>
        </p:grpSpPr>
        <p:sp>
          <p:nvSpPr>
            <p:cNvPr id="195" name="Text Box 13"/>
            <p:cNvSpPr/>
            <p:nvPr/>
          </p:nvSpPr>
          <p:spPr>
            <a:xfrm>
              <a:off x="4140360" y="476280"/>
              <a:ext cx="47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GLUCOSA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        GLUCOSA-6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5949720" y="692280"/>
              <a:ext cx="68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5422320" y="1052640"/>
              <a:ext cx="529200" cy="5047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6404040" y="1125360"/>
              <a:ext cx="528840" cy="505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5949720" y="765000"/>
              <a:ext cx="603720" cy="287640"/>
            </a:xfrm>
            <a:custGeom>
              <a:avLst/>
              <a:gdLst>
                <a:gd name="textAreaLeft" fmla="*/ 105480 w 603720"/>
                <a:gd name="textAreaRight" fmla="*/ 437760 w 603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4"/>
          <p:cNvGrpSpPr/>
          <p:nvPr/>
        </p:nvGrpSpPr>
        <p:grpSpPr>
          <a:xfrm>
            <a:off x="4284720" y="189000"/>
            <a:ext cx="1294920" cy="287280"/>
            <a:chOff x="4284720" y="189000"/>
            <a:chExt cx="1294920" cy="287280"/>
          </a:xfrm>
        </p:grpSpPr>
        <p:sp>
          <p:nvSpPr>
            <p:cNvPr id="201" name="Oval 18"/>
            <p:cNvSpPr/>
            <p:nvPr/>
          </p:nvSpPr>
          <p:spPr>
            <a:xfrm>
              <a:off x="428472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9"/>
            <p:cNvSpPr/>
            <p:nvPr/>
          </p:nvSpPr>
          <p:spPr>
            <a:xfrm>
              <a:off x="4500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>
              <a:off x="4716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1"/>
            <p:cNvSpPr/>
            <p:nvPr/>
          </p:nvSpPr>
          <p:spPr>
            <a:xfrm>
              <a:off x="4932360" y="189000"/>
              <a:ext cx="21528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2"/>
            <p:cNvSpPr/>
            <p:nvPr/>
          </p:nvSpPr>
          <p:spPr>
            <a:xfrm>
              <a:off x="5148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5364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6"/>
          <p:cNvGrpSpPr/>
          <p:nvPr/>
        </p:nvGrpSpPr>
        <p:grpSpPr>
          <a:xfrm>
            <a:off x="6804000" y="19080"/>
            <a:ext cx="1728360" cy="459720"/>
            <a:chOff x="6804000" y="19080"/>
            <a:chExt cx="1728360" cy="459720"/>
          </a:xfrm>
        </p:grpSpPr>
        <p:sp>
          <p:nvSpPr>
            <p:cNvPr id="208" name="Text Box 34"/>
            <p:cNvSpPr/>
            <p:nvPr/>
          </p:nvSpPr>
          <p:spPr>
            <a:xfrm>
              <a:off x="8027640" y="190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5"/>
            <p:cNvGrpSpPr/>
            <p:nvPr/>
          </p:nvGrpSpPr>
          <p:grpSpPr>
            <a:xfrm>
              <a:off x="6804000" y="115920"/>
              <a:ext cx="1079280" cy="287280"/>
              <a:chOff x="6804000" y="115920"/>
              <a:chExt cx="1079280" cy="287280"/>
            </a:xfrm>
          </p:grpSpPr>
          <p:sp>
            <p:nvSpPr>
              <p:cNvPr id="210" name="Oval 26"/>
              <p:cNvSpPr/>
              <p:nvPr/>
            </p:nvSpPr>
            <p:spPr>
              <a:xfrm>
                <a:off x="680400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7"/>
              <p:cNvSpPr/>
              <p:nvPr/>
            </p:nvSpPr>
            <p:spPr>
              <a:xfrm>
                <a:off x="702000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8"/>
              <p:cNvSpPr/>
              <p:nvPr/>
            </p:nvSpPr>
            <p:spPr>
              <a:xfrm>
                <a:off x="7235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29"/>
              <p:cNvSpPr/>
              <p:nvPr/>
            </p:nvSpPr>
            <p:spPr>
              <a:xfrm>
                <a:off x="7451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30"/>
              <p:cNvSpPr/>
              <p:nvPr/>
            </p:nvSpPr>
            <p:spPr>
              <a:xfrm>
                <a:off x="766764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Oval 31"/>
            <p:cNvSpPr/>
            <p:nvPr/>
          </p:nvSpPr>
          <p:spPr>
            <a:xfrm>
              <a:off x="7883280" y="11592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8243640" y="44280"/>
              <a:ext cx="288720" cy="368280"/>
            </a:xfrm>
            <a:prstGeom prst="rect">
              <a:avLst/>
            </a:prstGeom>
            <a:solidFill>
              <a:srgbClr val="ffd9f5"/>
            </a:soli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7"/>
          <p:cNvSpPr/>
          <p:nvPr/>
        </p:nvSpPr>
        <p:spPr>
          <a:xfrm>
            <a:off x="985680" y="2214720"/>
            <a:ext cx="17290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ZIM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554280" y="2214720"/>
            <a:ext cx="2232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T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láb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040440" y="2206800"/>
            <a:ext cx="2817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PROTE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e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11280" y="1341360"/>
            <a:ext cx="266364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HOL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64000" y="1341360"/>
            <a:ext cx="23749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AP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300720" y="1338120"/>
            <a:ext cx="21607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C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320364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594036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900000" y="4797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4427640" y="4221000"/>
            <a:ext cx="316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ansportadores de grup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4500720" y="5661000"/>
            <a:ext cx="2663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ansportadores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 flipV="1">
            <a:off x="3419640" y="4653000"/>
            <a:ext cx="72072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3419640" y="5300640"/>
            <a:ext cx="431640" cy="50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84807"/>
                </a:solidFill>
                <a:latin typeface="Calibri"/>
              </a:rPr>
              <a:t>VITAMINAS-CO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2"/>
          <p:cNvGrpSpPr/>
          <p:nvPr/>
        </p:nvGrpSpPr>
        <p:grpSpPr>
          <a:xfrm>
            <a:off x="826920" y="1413000"/>
            <a:ext cx="7994880" cy="439560"/>
            <a:chOff x="826920" y="1413000"/>
            <a:chExt cx="7994880" cy="439560"/>
          </a:xfrm>
        </p:grpSpPr>
        <p:sp>
          <p:nvSpPr>
            <p:cNvPr id="235" name="Text Box 30"/>
            <p:cNvSpPr/>
            <p:nvPr/>
          </p:nvSpPr>
          <p:spPr>
            <a:xfrm>
              <a:off x="826920" y="1484280"/>
              <a:ext cx="1224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iac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2700360" y="1484280"/>
              <a:ext cx="1511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, N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4716360" y="1484280"/>
              <a:ext cx="2159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6948360" y="1773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5"/>
            <p:cNvSpPr/>
            <p:nvPr/>
          </p:nvSpPr>
          <p:spPr>
            <a:xfrm>
              <a:off x="7596360" y="1413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 G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4"/>
            <p:cNvSpPr/>
            <p:nvPr/>
          </p:nvSpPr>
          <p:spPr>
            <a:xfrm>
              <a:off x="234000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5"/>
            <p:cNvSpPr/>
            <p:nvPr/>
          </p:nvSpPr>
          <p:spPr>
            <a:xfrm>
              <a:off x="428472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395280" y="2357280"/>
            <a:ext cx="8353440" cy="370800"/>
            <a:chOff x="395280" y="2357280"/>
            <a:chExt cx="8353440" cy="370800"/>
          </a:xfrm>
        </p:grpSpPr>
        <p:sp>
          <p:nvSpPr>
            <p:cNvPr id="243" name="Text Box 14"/>
            <p:cNvSpPr/>
            <p:nvPr/>
          </p:nvSpPr>
          <p:spPr>
            <a:xfrm>
              <a:off x="395280" y="2357280"/>
              <a:ext cx="208764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Riboflavina (Vit.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916360" y="235728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, F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6"/>
            <p:cNvSpPr/>
            <p:nvPr/>
          </p:nvSpPr>
          <p:spPr>
            <a:xfrm>
              <a:off x="4859280" y="235728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6732720" y="2572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8"/>
            <p:cNvSpPr/>
            <p:nvPr/>
          </p:nvSpPr>
          <p:spPr>
            <a:xfrm>
              <a:off x="7740720" y="23572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442764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55600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4"/>
          <p:cNvGrpSpPr/>
          <p:nvPr/>
        </p:nvGrpSpPr>
        <p:grpSpPr>
          <a:xfrm>
            <a:off x="539640" y="3078000"/>
            <a:ext cx="8353440" cy="370800"/>
            <a:chOff x="539640" y="3078000"/>
            <a:chExt cx="8353440" cy="370800"/>
          </a:xfrm>
        </p:grpSpPr>
        <p:sp>
          <p:nvSpPr>
            <p:cNvPr id="251" name="Text Box 8"/>
            <p:cNvSpPr/>
            <p:nvPr/>
          </p:nvSpPr>
          <p:spPr>
            <a:xfrm>
              <a:off x="539640" y="3078000"/>
              <a:ext cx="180036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Tiamina (Vit. 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2843280" y="3078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4859280" y="30780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6877080" y="32936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7667640" y="3078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,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58"/>
            <p:cNvSpPr/>
            <p:nvPr/>
          </p:nvSpPr>
          <p:spPr>
            <a:xfrm>
              <a:off x="2411280" y="3222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9"/>
            <p:cNvSpPr/>
            <p:nvPr/>
          </p:nvSpPr>
          <p:spPr>
            <a:xfrm>
              <a:off x="4356000" y="3293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76"/>
          <p:cNvGrpSpPr/>
          <p:nvPr/>
        </p:nvGrpSpPr>
        <p:grpSpPr>
          <a:xfrm>
            <a:off x="539640" y="4292640"/>
            <a:ext cx="8352000" cy="642600"/>
            <a:chOff x="539640" y="4292640"/>
            <a:chExt cx="8352000" cy="642600"/>
          </a:xfrm>
        </p:grpSpPr>
        <p:sp>
          <p:nvSpPr>
            <p:cNvPr id="259" name="Text Box 40"/>
            <p:cNvSpPr/>
            <p:nvPr/>
          </p:nvSpPr>
          <p:spPr>
            <a:xfrm>
              <a:off x="539640" y="4437000"/>
              <a:ext cx="1656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fó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1"/>
            <p:cNvSpPr/>
            <p:nvPr/>
          </p:nvSpPr>
          <p:spPr>
            <a:xfrm>
              <a:off x="2916360" y="4508640"/>
              <a:ext cx="1439640" cy="405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TH</a:t>
              </a:r>
              <a:r>
                <a:rPr b="1" lang="es-ES" sz="1800" spc="-1" strike="noStrike" baseline="-25000">
                  <a:solidFill>
                    <a:srgbClr val="ff505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859280" y="4292640"/>
              <a:ext cx="2158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   monocarbon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3"/>
            <p:cNvSpPr/>
            <p:nvPr/>
          </p:nvSpPr>
          <p:spPr>
            <a:xfrm>
              <a:off x="7524720" y="4292640"/>
              <a:ext cx="1366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Ser-Tre Deshidr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7093080" y="45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0"/>
            <p:cNvSpPr/>
            <p:nvPr/>
          </p:nvSpPr>
          <p:spPr>
            <a:xfrm>
              <a:off x="450072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3"/>
            <p:cNvSpPr/>
            <p:nvPr/>
          </p:nvSpPr>
          <p:spPr>
            <a:xfrm>
              <a:off x="234000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8"/>
          <p:cNvGrpSpPr/>
          <p:nvPr/>
        </p:nvGrpSpPr>
        <p:grpSpPr>
          <a:xfrm>
            <a:off x="611280" y="6021360"/>
            <a:ext cx="7993080" cy="642600"/>
            <a:chOff x="611280" y="6021360"/>
            <a:chExt cx="7993080" cy="642600"/>
          </a:xfrm>
        </p:grpSpPr>
        <p:sp>
          <p:nvSpPr>
            <p:cNvPr id="267" name="Text Box 36"/>
            <p:cNvSpPr/>
            <p:nvPr/>
          </p:nvSpPr>
          <p:spPr>
            <a:xfrm>
              <a:off x="611280" y="6093000"/>
              <a:ext cx="16570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2916360" y="6093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9"/>
            <p:cNvSpPr/>
            <p:nvPr/>
          </p:nvSpPr>
          <p:spPr>
            <a:xfrm>
              <a:off x="4932360" y="602136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50"/>
            <p:cNvSpPr/>
            <p:nvPr/>
          </p:nvSpPr>
          <p:spPr>
            <a:xfrm>
              <a:off x="6948360" y="638172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1"/>
            <p:cNvSpPr/>
            <p:nvPr/>
          </p:nvSpPr>
          <p:spPr>
            <a:xfrm>
              <a:off x="7812000" y="6165720"/>
              <a:ext cx="792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2"/>
            <p:cNvSpPr/>
            <p:nvPr/>
          </p:nvSpPr>
          <p:spPr>
            <a:xfrm>
              <a:off x="2484360" y="6237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4"/>
            <p:cNvSpPr/>
            <p:nvPr/>
          </p:nvSpPr>
          <p:spPr>
            <a:xfrm>
              <a:off x="4572000" y="630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7"/>
          <p:cNvGrpSpPr/>
          <p:nvPr/>
        </p:nvGrpSpPr>
        <p:grpSpPr>
          <a:xfrm>
            <a:off x="539640" y="5157720"/>
            <a:ext cx="8352000" cy="642600"/>
            <a:chOff x="539640" y="5157720"/>
            <a:chExt cx="8352000" cy="642600"/>
          </a:xfrm>
        </p:grpSpPr>
        <p:sp>
          <p:nvSpPr>
            <p:cNvPr id="275" name="Text Box 20"/>
            <p:cNvSpPr/>
            <p:nvPr/>
          </p:nvSpPr>
          <p:spPr>
            <a:xfrm>
              <a:off x="539640" y="5229360"/>
              <a:ext cx="172872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Piridoxina (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1"/>
            <p:cNvSpPr/>
            <p:nvPr/>
          </p:nvSpPr>
          <p:spPr>
            <a:xfrm>
              <a:off x="2916360" y="5229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-piridox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2"/>
            <p:cNvSpPr/>
            <p:nvPr/>
          </p:nvSpPr>
          <p:spPr>
            <a:xfrm>
              <a:off x="4932360" y="5157720"/>
              <a:ext cx="2016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Transferencia grupos ami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7451640" y="5157720"/>
              <a:ext cx="1440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ransam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7020000" y="5516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1"/>
            <p:cNvSpPr/>
            <p:nvPr/>
          </p:nvSpPr>
          <p:spPr>
            <a:xfrm>
              <a:off x="2340000" y="5373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5"/>
            <p:cNvSpPr/>
            <p:nvPr/>
          </p:nvSpPr>
          <p:spPr>
            <a:xfrm>
              <a:off x="4427640" y="5445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75"/>
          <p:cNvGrpSpPr/>
          <p:nvPr/>
        </p:nvGrpSpPr>
        <p:grpSpPr>
          <a:xfrm>
            <a:off x="395280" y="3654360"/>
            <a:ext cx="8353440" cy="511200"/>
            <a:chOff x="395280" y="3654360"/>
            <a:chExt cx="8353440" cy="511200"/>
          </a:xfrm>
        </p:grpSpPr>
        <p:sp>
          <p:nvSpPr>
            <p:cNvPr id="283" name="Text Box 47"/>
            <p:cNvSpPr/>
            <p:nvPr/>
          </p:nvSpPr>
          <p:spPr>
            <a:xfrm>
              <a:off x="395280" y="3797280"/>
              <a:ext cx="2232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9"/>
            <p:cNvSpPr/>
            <p:nvPr/>
          </p:nvSpPr>
          <p:spPr>
            <a:xfrm>
              <a:off x="2916360" y="379728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2"/>
            <p:cNvSpPr/>
            <p:nvPr/>
          </p:nvSpPr>
          <p:spPr>
            <a:xfrm>
              <a:off x="4932360" y="379728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3"/>
            <p:cNvSpPr/>
            <p:nvPr/>
          </p:nvSpPr>
          <p:spPr>
            <a:xfrm>
              <a:off x="6948360" y="3941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6"/>
            <p:cNvSpPr/>
            <p:nvPr/>
          </p:nvSpPr>
          <p:spPr>
            <a:xfrm>
              <a:off x="4572000" y="4014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7"/>
            <p:cNvSpPr/>
            <p:nvPr/>
          </p:nvSpPr>
          <p:spPr>
            <a:xfrm>
              <a:off x="2627280" y="401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68"/>
            <p:cNvSpPr/>
            <p:nvPr/>
          </p:nvSpPr>
          <p:spPr>
            <a:xfrm>
              <a:off x="7740720" y="365436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84807"/>
                </a:solidFill>
                <a:latin typeface="Calibri"/>
              </a:rPr>
              <a:t>Enzimas que requieren iones metálicos como cofa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539640" y="1773360"/>
            <a:ext cx="244800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er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3419640" y="2133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5796000" y="1628640"/>
            <a:ext cx="144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ó 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50800" y="3357720"/>
            <a:ext cx="2592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Anhidrasa carb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350028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929200" y="3068640"/>
            <a:ext cx="1008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571680" y="5516640"/>
            <a:ext cx="2376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500280" y="5734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6143760" y="522936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71680" y="4076640"/>
            <a:ext cx="252072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Glucosa-6-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3500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6000840" y="429264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MPARTIMENTALIZACION: Diferente localización dentro de la célu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STEMAS MULTIENZIMATICOS: Enzimas relacionadas agrupadas formando verdaderos complejos  macromolec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ZIMAS MULTIFUNCIONALES: Una enzima que presenta distintos sitios catalí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0960" y="2725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84807"/>
                </a:solidFill>
                <a:latin typeface="Calibri"/>
              </a:rPr>
              <a:t>DISTRIBUCION 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Qué so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NZIM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son macromoléculas que tienen la capacidad de AUMENTAR LA VELOCIDAD de las reacciones, por ello se denominan 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es bi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agente capaz de acelerar una reacción química, sin formar parte de los productos formados, ni desgastarse en el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500040" y="928800"/>
            <a:ext cx="8286840" cy="4480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ENZIMAS (E)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PROTEÍN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 la excepción de un pequeño grupo de moléculas de RNA catalítico, llamadas </a:t>
            </a:r>
            <a:r>
              <a:rPr b="1" lang="es-AR" sz="3200" spc="-1" strike="noStrike">
                <a:solidFill>
                  <a:srgbClr val="00b050"/>
                </a:solidFill>
                <a:latin typeface="Arial"/>
              </a:rPr>
              <a:t>ribozimas.</a:t>
            </a:r>
            <a:r>
              <a:rPr b="0" lang="es-AR" sz="32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actividad catalítica depende de la integridad de su conformación proteica n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CuadroTexto"/>
          <p:cNvSpPr/>
          <p:nvPr/>
        </p:nvSpPr>
        <p:spPr>
          <a:xfrm>
            <a:off x="690840" y="214200"/>
            <a:ext cx="788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¿Cuál es la naturaleza química de las Enzi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85480" y="829800"/>
            <a:ext cx="8643960" cy="48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Las enzimas deben ser sintetizadas correctamente, con las estructuras proteicas: primaria, secundaria, terciaria y cuaternaria si la tuv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0099"/>
                </a:solidFill>
                <a:latin typeface="Arial"/>
                <a:ea typeface="Arial"/>
              </a:rPr>
              <a:t>Cualquier alteración de la síntesis de estas proteínas puede llevar a una patolog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990000"/>
                </a:solidFill>
                <a:latin typeface="Arial"/>
                <a:ea typeface="Arial"/>
              </a:rPr>
              <a:t>A veces estas alteraciones puede solucionarse con cambios en la dieta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sustancia sobre las cuales actúan se denominan </a:t>
            </a:r>
            <a:r>
              <a:rPr b="0" lang="es-ES" sz="3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USTRA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CuadroTexto"/>
          <p:cNvSpPr/>
          <p:nvPr/>
        </p:nvSpPr>
        <p:spPr>
          <a:xfrm>
            <a:off x="285840" y="1928880"/>
            <a:ext cx="8572320" cy="3229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Ningún ser vivo puede vivir sin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La mayoría de las reacciones deben ser catalizadas para que ocurran en el tiempo y el momento que la célula lo requ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 fontScale="94000"/>
          </a:bodyPr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Transformación de moléculas de nutrientes simples en moléculas mas complejas, y vicever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Extracción de energía desde combustibles o compuestos degradables por oxid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Polimerización de subunidades para formar macromolécu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Qué funciones tiene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1142640"/>
            <a:ext cx="8229600" cy="4786200"/>
          </a:xfrm>
          <a:prstGeom prst="rect">
            <a:avLst/>
          </a:prstGeom>
          <a:solidFill>
            <a:srgbClr val="d9d9d9"/>
          </a:solidFill>
          <a:ln w="381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formación de moléculas complejas en moléculas simples y vice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Ejemplos de transformaciones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mediadas por enzima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6"/>
          <p:cNvSpPr/>
          <p:nvPr/>
        </p:nvSpPr>
        <p:spPr>
          <a:xfrm>
            <a:off x="857160" y="2575080"/>
            <a:ext cx="144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85880" y="343836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785880" y="437508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513160" y="2646360"/>
            <a:ext cx="792000" cy="2303640"/>
          </a:xfrm>
          <a:custGeom>
            <a:avLst/>
            <a:gdLst>
              <a:gd name="textAreaLeft" fmla="*/ 0 w 792000"/>
              <a:gd name="textAreaRight" fmla="*/ 285840 w 792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62240" y="3149640"/>
            <a:ext cx="165600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M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4962600" y="3222720"/>
            <a:ext cx="863640" cy="21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000240" y="4807080"/>
            <a:ext cx="2394000" cy="693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6257880" y="4662360"/>
            <a:ext cx="223200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(GLUCOSA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5465520" y="502272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826240" y="2933640"/>
            <a:ext cx="2303280" cy="100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 (GL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 flipH="1">
            <a:off x="5393880" y="250200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5249880" y="2214720"/>
            <a:ext cx="1728720" cy="50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6834240" y="3870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6329520" y="401472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2"/>
          <p:cNvSpPr/>
          <p:nvPr/>
        </p:nvSpPr>
        <p:spPr>
          <a:xfrm>
            <a:off x="250920" y="765000"/>
            <a:ext cx="180000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177840" y="1844640"/>
            <a:ext cx="180036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IZ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34920" y="3068640"/>
            <a:ext cx="1943280" cy="86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ORI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05092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698920" y="1844640"/>
            <a:ext cx="172692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(T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1333440" y="4365720"/>
            <a:ext cx="2952720" cy="158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4429080" y="5111640"/>
            <a:ext cx="129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5508720" y="1413000"/>
            <a:ext cx="3024000" cy="151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00720" y="24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500720" y="1989000"/>
            <a:ext cx="863280" cy="217800"/>
          </a:xfrm>
          <a:custGeom>
            <a:avLst/>
            <a:gdLst>
              <a:gd name="textAreaLeft" fmla="*/ 150840 w 863280"/>
              <a:gd name="textAreaRight" fmla="*/ 626040 w 86328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 flipH="1">
            <a:off x="5076360" y="1268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643280" y="90792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7020000" y="299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6156360" y="321300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5796000" y="4076640"/>
            <a:ext cx="280836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+3 AC.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4143240" y="442908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8640" y="785520"/>
            <a:ext cx="8685360" cy="514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l nombre del sustrato o del producto, se le agrega la terminación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AR" sz="2400" spc="-1" strike="noStrike" u="sng">
                <a:solidFill>
                  <a:srgbClr val="0000ff"/>
                </a:solidFill>
                <a:uFillTx/>
                <a:latin typeface="Calibri"/>
              </a:rPr>
              <a:t>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Por ejemplo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sacarasa, ureasa, amilasa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la reacción que catalizan, por ej.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oxidoreductasa, deshidrogenasa, descarboxilasa, etc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tras tienen nombres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arbitrarios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, co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ptialina salival, pepsina del jugo gástrico, tripsina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ada enzima tiene un nombre y un numero asignado por la Comisión Internacional de Enzim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ej.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Lactato deshidrogenas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EC 1.1.1.27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920" y="4320"/>
            <a:ext cx="8858160" cy="63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¿Cómo se denomina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395280" y="5859360"/>
            <a:ext cx="7951680" cy="1371600"/>
            <a:chOff x="395280" y="5859360"/>
            <a:chExt cx="7951680" cy="1371600"/>
          </a:xfrm>
        </p:grpSpPr>
        <p:sp>
          <p:nvSpPr>
            <p:cNvPr id="128" name="Text Box 24"/>
            <p:cNvSpPr/>
            <p:nvPr/>
          </p:nvSpPr>
          <p:spPr>
            <a:xfrm>
              <a:off x="785880" y="6215040"/>
              <a:ext cx="7561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395280" y="5859360"/>
              <a:ext cx="748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07:57:39Z</dcterms:created>
  <dc:creator>ali y facu</dc:creator>
  <dc:description/>
  <dc:language>en-US</dc:language>
  <cp:lastModifiedBy>ali y facu</cp:lastModifiedBy>
  <dcterms:modified xsi:type="dcterms:W3CDTF">2014-08-27T23:55:21Z</dcterms:modified>
  <cp:revision>30</cp:revision>
  <dc:subject/>
  <dc:title>Diapositiva 1</dc:title>
</cp:coreProperties>
</file>